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D11-E995-48E6-B69D-1A6E0A39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C34-A5E5-40D1-BB52-40EE9C7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25F-9B02-4585-8BDB-8EE476D9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CED-A76C-421B-A03E-A6C82709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7BD-72AC-468F-982F-73955EA5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6C7-F1E9-49DF-8FE9-67995F9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0A1-E9A4-4B5B-8916-B9F470D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140-6F17-4D65-9634-EAA9180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5CD-4306-42C8-B6F1-BC00297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3BE-98E6-44D9-BD2A-C31D513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099-8E6A-48C7-969C-C90DE8E7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565-8859-4876-9F1A-2DFBE67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C85-BB89-43E6-98B5-B28E337D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1276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2b00"/>
                </a:solidFill>
                <a:latin typeface="Comic Sans MS"/>
              </a:rPr>
              <a:t>The Unanswerable Argument for Suff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0" b="5480"/>
          <a:stretch/>
        </p:blipFill>
        <p:spPr>
          <a:xfrm>
            <a:off x="2209680" y="1066680"/>
            <a:ext cx="5445360" cy="5486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come Tax / Federal Reserve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mendment – graduated tax 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ed at 1% and rose to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= 20% an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deral Reser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 divided into 12 distr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district has a federal reserve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 currency, loan money to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son’s Foreign Poli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s 710-7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x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gend of Pancho V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ld War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Rockwell"/>
              </a:rPr>
              <a:t>The Mexican Revolution: 1910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ctoriano Huerta seizes control of Mex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uts Madero in prison where he wa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nustiano Carranza, Pancho Villa, Emilian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pata, and Alvaro Obregon fought against H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U.S. also got involved by occupy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acruz and Huerta fled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ntually Carranza would gain power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Rockwell"/>
              </a:rPr>
              <a:t>Wilson’s “Moral Diplomac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27040" y="1447920"/>
            <a:ext cx="374004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572000" y="1676520"/>
            <a:ext cx="4343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U. S. shou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 the consc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world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read democrac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mote peac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emn coloni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Rockwell"/>
              </a:rPr>
              <a:t>Searching for </a:t>
            </a:r>
            <a:r>
              <a:rPr b="1" i="1" lang="en-US" sz="4400" spc="-1" strike="noStrike">
                <a:solidFill>
                  <a:srgbClr val="000099"/>
                </a:solidFill>
                <a:latin typeface="Rockwell"/>
              </a:rPr>
              <a:t>Band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7150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General John J. Pershing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Pancho</a:t>
            </a:r>
            <a:br>
              <a:rPr sz="2600"/>
            </a:br>
            <a:r>
              <a:rPr b="1" lang="en-US" sz="2600" spc="-1" strike="noStrike">
                <a:solidFill>
                  <a:srgbClr val="e40000"/>
                </a:solidFill>
                <a:latin typeface="Comic Sans MS"/>
              </a:rPr>
              <a:t>Villa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in 191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6000"/>
          </a:blip>
          <a:srcRect l="2418" t="1645" r="906" b="1130"/>
          <a:stretch/>
        </p:blipFill>
        <p:spPr>
          <a:xfrm>
            <a:off x="1523880" y="1066680"/>
            <a:ext cx="6096240" cy="44960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7632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e02b00"/>
                </a:solidFill>
                <a:latin typeface="Comic Sans MS"/>
              </a:rPr>
              <a:t>Never Again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ft Abandons Support for Women’s Suf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235" b="3125"/>
          <a:stretch/>
        </p:blipFill>
        <p:spPr>
          <a:xfrm>
            <a:off x="3124080" y="990720"/>
            <a:ext cx="4233960" cy="4952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920" y="979560"/>
            <a:ext cx="2895480" cy="467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TR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&amp;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Women’s</a:t>
            </a:r>
            <a:br>
              <a:rPr sz="4000"/>
            </a:br>
            <a:r>
              <a:rPr b="1" lang="en-US" sz="4000" spc="-1" strike="noStrike">
                <a:solidFill>
                  <a:srgbClr val="e02b00"/>
                </a:solidFill>
                <a:latin typeface="Comic Sans MS"/>
              </a:rPr>
              <a:t>Suff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2b00"/>
                </a:solidFill>
                <a:latin typeface="Comic Sans MS"/>
              </a:rPr>
              <a:t>The Militant Recr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lum contrast="6000"/>
          </a:blip>
          <a:srcRect l="8331" t="2961" r="8331" b="9770"/>
          <a:stretch/>
        </p:blipFill>
        <p:spPr>
          <a:xfrm>
            <a:off x="914400" y="228600"/>
            <a:ext cx="4235400" cy="6248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2b00"/>
                </a:solidFill>
                <a:latin typeface="Comic Sans MS"/>
              </a:rPr>
              <a:t>Trying to Catch the African Ameri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615" t="5701" r="4818" b="11616"/>
          <a:stretch/>
        </p:blipFill>
        <p:spPr>
          <a:xfrm>
            <a:off x="1981080" y="1295280"/>
            <a:ext cx="6553440" cy="5000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53352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02b00"/>
                </a:solidFill>
                <a:latin typeface="Comic Sans MS"/>
              </a:rPr>
              <a:t>1912 Bal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>
            <a:lum contrast="6000"/>
          </a:blip>
          <a:srcRect l="0" t="0" r="1506" b="2910"/>
          <a:stretch/>
        </p:blipFill>
        <p:spPr>
          <a:xfrm>
            <a:off x="1066680" y="2133720"/>
            <a:ext cx="716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5228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Elec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7391160" cy="397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52480" y="51055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912, 100,000 fewer people had voted for Wilson than had voted for Bryan in 19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1912 election marked the apogee of the Socialist movement in Ame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549360"/>
            <a:ext cx="853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GOP Divided by Bull Moose</a:t>
            </a:r>
            <a:br>
              <a:rPr sz="4400"/>
            </a:br>
            <a:r>
              <a:rPr b="1" lang="en-US" sz="4400" spc="-1" strike="noStrike">
                <a:solidFill>
                  <a:srgbClr val="e02b00"/>
                </a:solidFill>
                <a:latin typeface="Comic Sans MS"/>
              </a:rPr>
              <a:t>Equals Democratic Vic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lum contrast="12000"/>
          </a:blip>
          <a:srcRect l="0" t="3086" r="5298" b="10430"/>
          <a:stretch/>
        </p:blipFill>
        <p:spPr>
          <a:xfrm>
            <a:off x="1523880" y="2666880"/>
            <a:ext cx="7315200" cy="2291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912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ed as the Election that changed the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ce of political and economic philoso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cratic – Laissez faire economics and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ublican – socially conservative, limited progressive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ive – activist welfa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.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fferson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wood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deral Reserve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yton-Anti Trust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12:24Z</dcterms:modified>
  <cp:revision>40</cp:revision>
  <dc:subject/>
  <dc:title>Slide 1</dc:title>
</cp:coreProperties>
</file>